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5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29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52.png" ContentType="image/png"/>
  <Override PartName="/ppt/media/image30.jpeg" ContentType="image/jpeg"/>
  <Override PartName="/ppt/media/image48.jpeg" ContentType="image/jpeg"/>
  <Override PartName="/ppt/media/image53.png" ContentType="image/png"/>
  <Override PartName="/ppt/media/image43.png" ContentType="image/png"/>
  <Override PartName="/ppt/media/image47.jpeg" ContentType="image/jpeg"/>
  <Override PartName="/ppt/media/image55.png" ContentType="image/png"/>
  <Override PartName="/ppt/media/image37.png" ContentType="image/png"/>
  <Override PartName="/ppt/media/image34.jpeg" ContentType="image/jpeg"/>
  <Override PartName="/ppt/media/image18.png" ContentType="image/png"/>
  <Override PartName="/ppt/media/image56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36.jpeg" ContentType="image/jpeg"/>
  <Override PartName="/ppt/media/image31.png" ContentType="image/png"/>
  <Override PartName="/ppt/media/image6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ED6-8B6F-4BEA-ABF9-D410D2C0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188-7E79-438E-9084-EA5D3F39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9B5-BF95-4DFC-ADD7-CB0150D1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EA0-5BAB-4E66-8BEE-634FCEF2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11C0-08B4-4F28-8475-F6813AB3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9DA5-4209-4507-AD98-8EC89E3D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AB0C-1C04-4BA8-A756-03910184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9842-0F3D-45D5-A317-C1B49CC7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78B3-BE93-4E1B-9ED9-3F92AA53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F701-C1C2-42DF-B8F5-DA800C97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5EB9-1F8B-4167-A6B7-E92DEA42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F38-65C8-437C-9DD0-25DB9213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722F-7FE5-4D4E-83E8-2016C4A8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18C2-1C8E-4788-8868-C6C07AD2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78AF-1E74-499F-8B89-63E0951B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DC5E-F35A-4239-B851-F87FC249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6B09-EB2E-4C9B-B81A-59377817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BCBC-085D-47E5-8CDC-9F298B2B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14E5-AF39-45A6-8D3B-5C2CF3AF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3EE40-6CF6-458B-AC0B-43CF2DA6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22B2C-FCEE-4AC6-925E-C9F5606D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5C73D-FA46-4659-83E8-D115093E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577-B71D-4635-A46E-866B6DEE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FF4C-F57A-46EC-863E-80C98C6A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CF8D-54BC-4E4F-A6AC-A2DF4716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E7A5-7F35-4E8C-8BD9-107BB2E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1625-0967-4895-9BC5-410BC09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357CE-91E4-40E2-A324-9C787EFD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05B7-6896-4D98-A31B-1A333863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6AF4-5C13-4AA6-8C26-A9094F0C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DF3-84C6-464F-B00A-26A3C9A6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4BA-E2C6-4650-ACAB-2299D71A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4DC-BF41-4B30-9B41-8886A826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7AA-5323-498C-983F-EF51A913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DA2-6BF9-430A-AD5C-453D2BAF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CC6-ED1D-4578-BBDF-C6E17268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5A49-F3BB-4A59-87D3-8528DFD6771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B964-DAE8-4857-B248-16074AF7436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2543-0DC7-4C4E-BEB2-5CDE6391B59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4902120" y="3981600"/>
            <a:ext cx="4267440" cy="2828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8360" y="1492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-115920" y="260280"/>
            <a:ext cx="3384720" cy="3349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3268800" y="2641680"/>
            <a:ext cx="3168360" cy="404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4"/>
          <a:stretch/>
        </p:blipFill>
        <p:spPr>
          <a:xfrm>
            <a:off x="5241960" y="115920"/>
            <a:ext cx="3902040" cy="320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0" y="4076640"/>
            <a:ext cx="3189240" cy="2387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913440" cy="4321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5" descr="KochRandom-Mars.gif"/>
          <p:cNvPicPr/>
          <p:nvPr/>
        </p:nvPicPr>
        <p:blipFill>
          <a:blip r:embed="rId1"/>
          <a:stretch/>
        </p:blipFill>
        <p:spPr>
          <a:xfrm>
            <a:off x="5238720" y="1125360"/>
            <a:ext cx="3533760" cy="2649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plasma3dbig.jpg"/>
          <p:cNvPicPr/>
          <p:nvPr/>
        </p:nvPicPr>
        <p:blipFill>
          <a:blip r:embed="rId2"/>
          <a:stretch/>
        </p:blipFill>
        <p:spPr>
          <a:xfrm>
            <a:off x="468360" y="2727360"/>
            <a:ext cx="4211640" cy="3149640"/>
          </a:xfrm>
          <a:prstGeom prst="rect">
            <a:avLst/>
          </a:prstGeom>
          <a:ln w="0">
            <a:noFill/>
          </a:ln>
        </p:spPr>
      </p:pic>
      <p:pic>
        <p:nvPicPr>
          <p:cNvPr id="163" name="Заголовок 1" descr=""/>
          <p:cNvPicPr/>
          <p:nvPr/>
        </p:nvPicPr>
        <p:blipFill>
          <a:blip r:embed="rId3"/>
          <a:stretch/>
        </p:blipFill>
        <p:spPr>
          <a:xfrm>
            <a:off x="420840" y="133200"/>
            <a:ext cx="8242200" cy="1159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00040" y="1499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Fractal-2.jpg"/>
          <p:cNvPicPr/>
          <p:nvPr/>
        </p:nvPicPr>
        <p:blipFill>
          <a:blip r:embed="rId1"/>
          <a:stretch/>
        </p:blipFill>
        <p:spPr>
          <a:xfrm>
            <a:off x="1214280" y="2286000"/>
            <a:ext cx="2500560" cy="1755720"/>
          </a:xfrm>
          <a:prstGeom prst="rect">
            <a:avLst/>
          </a:prstGeom>
          <a:ln w="0">
            <a:noFill/>
          </a:ln>
        </p:spPr>
      </p:pic>
      <p:pic>
        <p:nvPicPr>
          <p:cNvPr id="166" name="Заголовок 1" descr=""/>
          <p:cNvPicPr/>
          <p:nvPr/>
        </p:nvPicPr>
        <p:blipFill>
          <a:blip r:embed="rId2"/>
          <a:stretch/>
        </p:blipFill>
        <p:spPr>
          <a:xfrm>
            <a:off x="420840" y="-176040"/>
            <a:ext cx="8242200" cy="1444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-357480" y="114264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вная задача такого типа фракталов - моделирование неровных природных поверхнос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Рисунок 4" descr="images.jpeg"/>
          <p:cNvPicPr/>
          <p:nvPr/>
        </p:nvPicPr>
        <p:blipFill>
          <a:blip r:embed="rId3"/>
          <a:stretch/>
        </p:blipFill>
        <p:spPr>
          <a:xfrm>
            <a:off x="1214280" y="4572000"/>
            <a:ext cx="2643480" cy="17654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0003-004-Fraktaly-v-prirode.jpg"/>
          <p:cNvPicPr/>
          <p:nvPr/>
        </p:nvPicPr>
        <p:blipFill>
          <a:blip r:embed="rId4"/>
          <a:stretch/>
        </p:blipFill>
        <p:spPr>
          <a:xfrm>
            <a:off x="5143680" y="4572000"/>
            <a:ext cx="2649240" cy="16430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image002.jpg"/>
          <p:cNvPicPr/>
          <p:nvPr/>
        </p:nvPicPr>
        <p:blipFill>
          <a:blip r:embed="rId5"/>
          <a:stretch/>
        </p:blipFill>
        <p:spPr>
          <a:xfrm>
            <a:off x="5032440" y="2286000"/>
            <a:ext cx="2600280" cy="1714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28760" y="1356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ередачи данных на расстояния используются антенны, имеющие фрактальные формы, что сильно уменьшает их размеры и ве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Рисунок 3" descr="fractal_antenna_300x240.jpg"/>
          <p:cNvPicPr/>
          <p:nvPr/>
        </p:nvPicPr>
        <p:blipFill>
          <a:blip r:embed="rId2"/>
          <a:stretch/>
        </p:blipFill>
        <p:spPr>
          <a:xfrm>
            <a:off x="928800" y="3071880"/>
            <a:ext cx="2286000" cy="22240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fractal-300x199.jpg"/>
          <p:cNvPicPr/>
          <p:nvPr/>
        </p:nvPicPr>
        <p:blipFill>
          <a:blip r:embed="rId3"/>
          <a:stretch/>
        </p:blipFill>
        <p:spPr>
          <a:xfrm>
            <a:off x="4000680" y="3062160"/>
            <a:ext cx="1976400" cy="2224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images"/>
          <p:cNvPicPr/>
          <p:nvPr/>
        </p:nvPicPr>
        <p:blipFill>
          <a:blip r:embed="rId4"/>
          <a:stretch/>
        </p:blipFill>
        <p:spPr>
          <a:xfrm>
            <a:off x="7000920" y="3071880"/>
            <a:ext cx="1468440" cy="2214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6" descr="showimage4.jpg"/>
          <p:cNvPicPr/>
          <p:nvPr/>
        </p:nvPicPr>
        <p:blipFill>
          <a:blip r:embed="rId1"/>
          <a:stretch/>
        </p:blipFill>
        <p:spPr>
          <a:xfrm>
            <a:off x="1143000" y="29289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52119094_1260182292_28.jpg"/>
          <p:cNvPicPr/>
          <p:nvPr/>
        </p:nvPicPr>
        <p:blipFill>
          <a:blip r:embed="rId2"/>
          <a:stretch/>
        </p:blipFill>
        <p:spPr>
          <a:xfrm>
            <a:off x="4643280" y="2928960"/>
            <a:ext cx="3198960" cy="245412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3"/>
          <a:stretch/>
        </p:blipFill>
        <p:spPr>
          <a:xfrm>
            <a:off x="390600" y="268200"/>
            <a:ext cx="8454960" cy="115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28400" y="1428840"/>
            <a:ext cx="81867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омощи фракталов также можно смоделировать языки пламе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5185080" cy="3887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28760" y="85680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рактальный принцип развития природных и геометрических объектов проникает вглубь архитектуры и как образ внешнего решения объекта, и как внутренний принцип архитектурного формообразов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Рисунок 3" descr="8417.jpg"/>
          <p:cNvPicPr/>
          <p:nvPr/>
        </p:nvPicPr>
        <p:blipFill>
          <a:blip r:embed="rId2"/>
          <a:stretch/>
        </p:blipFill>
        <p:spPr>
          <a:xfrm>
            <a:off x="1071720" y="2427120"/>
            <a:ext cx="3860640" cy="3081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60746035_0a11b2286056c0e52dfa2bd29f31cf5a.jpg"/>
          <p:cNvPicPr/>
          <p:nvPr/>
        </p:nvPicPr>
        <p:blipFill>
          <a:blip r:embed="rId3"/>
          <a:stretch/>
        </p:blipFill>
        <p:spPr>
          <a:xfrm>
            <a:off x="4932360" y="3000240"/>
            <a:ext cx="3211560" cy="3407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4" descr="sgs-cpi.gif"/>
          <p:cNvPicPr/>
          <p:nvPr/>
        </p:nvPicPr>
        <p:blipFill>
          <a:blip r:embed="rId1"/>
          <a:stretch/>
        </p:blipFill>
        <p:spPr>
          <a:xfrm>
            <a:off x="755640" y="1628640"/>
            <a:ext cx="7381800" cy="4883400"/>
          </a:xfrm>
          <a:prstGeom prst="rect">
            <a:avLst/>
          </a:prstGeom>
          <a:ln w="0">
            <a:noFill/>
          </a:ln>
        </p:spPr>
      </p:pic>
      <p:pic>
        <p:nvPicPr>
          <p:cNvPr id="187" name="Заголовок 1" descr=""/>
          <p:cNvPicPr/>
          <p:nvPr/>
        </p:nvPicPr>
        <p:blipFill>
          <a:blip r:embed="rId2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42920" y="785520"/>
            <a:ext cx="85154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84360" y="855720"/>
            <a:ext cx="7664400" cy="574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акой основной результат получен в ходе работы на уроке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Все ли учебные задачи решены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2" descr=""/>
          <p:cNvPicPr/>
          <p:nvPr/>
        </p:nvPicPr>
        <p:blipFill>
          <a:blip r:embed="rId2"/>
          <a:stretch/>
        </p:blipFill>
        <p:spPr>
          <a:xfrm>
            <a:off x="-1116000" y="-1822320"/>
            <a:ext cx="12528360" cy="3644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7200" y="-18252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95280" y="191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Я узнал (а)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еня удивило, что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не понравилось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Я доволен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Я еще хотел (а) бы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Я хочу похвалить себя за то, что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Я не доволен (льна)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дготовить краткие сообщения на тему «Удивительный факт о фракталах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Дополнительно: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оставить программу для создания фрактала</a:t>
            </a:r>
            <a:r>
              <a:rPr b="1" lang="en-US" sz="3200" spc="-1" strike="noStrike">
                <a:solidFill>
                  <a:srgbClr val="002060"/>
                </a:solidFill>
                <a:latin typeface="Book Antiqua"/>
              </a:rPr>
              <a:t> 3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рядка, применив команду для построения окружности </a:t>
            </a:r>
            <a:r>
              <a:rPr b="1" lang="en-US" sz="3200" spc="-1" strike="noStrike">
                <a:solidFill>
                  <a:srgbClr val="c00000"/>
                </a:solidFill>
                <a:latin typeface="Book Antiqua"/>
              </a:rPr>
              <a:t>circle(x,y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1296720" cy="130788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3"/>
          <p:cNvSpPr/>
          <p:nvPr/>
        </p:nvSpPr>
        <p:spPr>
          <a:xfrm>
            <a:off x="4259160" y="1844640"/>
            <a:ext cx="432000" cy="43200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Овал 8"/>
          <p:cNvSpPr/>
          <p:nvPr/>
        </p:nvSpPr>
        <p:spPr>
          <a:xfrm>
            <a:off x="4402080" y="1557360"/>
            <a:ext cx="144360" cy="14292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Овал 10"/>
          <p:cNvSpPr/>
          <p:nvPr/>
        </p:nvSpPr>
        <p:spPr>
          <a:xfrm>
            <a:off x="4932360" y="1989000"/>
            <a:ext cx="144360" cy="14472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Овал 11"/>
          <p:cNvSpPr/>
          <p:nvPr/>
        </p:nvSpPr>
        <p:spPr>
          <a:xfrm>
            <a:off x="4402080" y="2421000"/>
            <a:ext cx="144360" cy="14436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Овал 12"/>
          <p:cNvSpPr/>
          <p:nvPr/>
        </p:nvSpPr>
        <p:spPr>
          <a:xfrm>
            <a:off x="3924360" y="1989000"/>
            <a:ext cx="142920" cy="14472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5580000" y="3054240"/>
            <a:ext cx="1176480" cy="1036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3"/>
          <a:stretch/>
        </p:blipFill>
        <p:spPr>
          <a:xfrm>
            <a:off x="2340000" y="3141720"/>
            <a:ext cx="1176480" cy="103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4"/>
          <a:stretch/>
        </p:blipFill>
        <p:spPr>
          <a:xfrm>
            <a:off x="3924360" y="4581360"/>
            <a:ext cx="1176120" cy="1036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680" y="404640"/>
            <a:ext cx="3630600" cy="3614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4336920" cy="2701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3851280" y="479520"/>
            <a:ext cx="5110200" cy="3525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6" descr="311556554_7c9ea9ee22.jpg"/>
          <p:cNvPicPr/>
          <p:nvPr/>
        </p:nvPicPr>
        <p:blipFill>
          <a:blip r:embed="rId1"/>
          <a:stretch/>
        </p:blipFill>
        <p:spPr>
          <a:xfrm>
            <a:off x="22320" y="-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21" descr=""/>
          <p:cNvPicPr/>
          <p:nvPr/>
        </p:nvPicPr>
        <p:blipFill>
          <a:blip r:embed="rId2"/>
          <a:stretch/>
        </p:blipFill>
        <p:spPr>
          <a:xfrm>
            <a:off x="420840" y="133200"/>
            <a:ext cx="8242200" cy="1159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84360" y="4724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ракта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бразовано от латинског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fractu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в переводе означает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остоящий из фрагмент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Оно было предложено Бенуа Мандельбротом в 1975 год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36766396_1229394401_258147427_6312caa9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-31680" y="4076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94200" indent="-295920">
              <a:lnSpc>
                <a:spcPct val="8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Фракталом называется структура, состоящая из частей, которые в каком-то смысле подобны целому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94200" indent="-295920">
              <a:lnSpc>
                <a:spcPct val="8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3" descr="fractal flame enchasket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14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математике выделяют три основные вида фракталов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Геометрические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Алгебраическ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Стохастическ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1159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Рисунок 3" descr="ls03.gif"/>
          <p:cNvPicPr/>
          <p:nvPr/>
        </p:nvPicPr>
        <p:blipFill>
          <a:blip r:embed="rId2"/>
          <a:stretch/>
        </p:blipFill>
        <p:spPr>
          <a:xfrm>
            <a:off x="250920" y="2714760"/>
            <a:ext cx="3963960" cy="3363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images.jpeg"/>
          <p:cNvPicPr/>
          <p:nvPr/>
        </p:nvPicPr>
        <p:blipFill>
          <a:blip r:embed="rId3"/>
          <a:stretch/>
        </p:blipFill>
        <p:spPr>
          <a:xfrm>
            <a:off x="4643280" y="2732040"/>
            <a:ext cx="4129200" cy="3346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4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42200" cy="1579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4356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Содержимое 7" descr="PyrBig.gif"/>
          <p:cNvPicPr/>
          <p:nvPr/>
        </p:nvPicPr>
        <p:blipFill>
          <a:blip r:embed="rId2"/>
          <a:stretch/>
        </p:blipFill>
        <p:spPr>
          <a:xfrm>
            <a:off x="5867280" y="4035600"/>
            <a:ext cx="2828880" cy="2801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0" y="0"/>
            <a:ext cx="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5057640" cy="3794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28760" y="999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Рисунок 3" descr="19192530.gif"/>
          <p:cNvPicPr/>
          <p:nvPr/>
        </p:nvPicPr>
        <p:blipFill>
          <a:blip r:embed="rId2"/>
          <a:stretch/>
        </p:blipFill>
        <p:spPr>
          <a:xfrm>
            <a:off x="501480" y="981000"/>
            <a:ext cx="402768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julia_set.jpg"/>
          <p:cNvPicPr/>
          <p:nvPr/>
        </p:nvPicPr>
        <p:blipFill>
          <a:blip r:embed="rId3"/>
          <a:stretch/>
        </p:blipFill>
        <p:spPr>
          <a:xfrm>
            <a:off x="4356000" y="3141720"/>
            <a:ext cx="4641840" cy="3166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06:53:57Z</dcterms:created>
  <dc:creator>user</dc:creator>
  <dc:description/>
  <dc:language>en-US</dc:language>
  <cp:lastModifiedBy>mr</cp:lastModifiedBy>
  <dcterms:modified xsi:type="dcterms:W3CDTF">2016-03-12T14:04:26Z</dcterms:modified>
  <cp:revision>86</cp:revision>
  <dc:subject/>
  <dc:title>ФРАКТАЛ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0c000000000001023620</vt:lpwstr>
  </property>
</Properties>
</file>